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6F5-7192-493C-84DC-60B030F2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6CC-C605-42A1-96FC-EAD4CF1F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00C-9BA1-485D-8090-F1B97582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DD7-A42B-470C-8DF1-C66758DE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930-A490-48AD-AA18-36E2A725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33F-7586-4182-A276-F99FD9C7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84A-192A-491B-8B81-6233071D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84E-0561-4EE8-AA6D-37847BDC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D39-E7DA-4609-AE77-4FFC217E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2A7-AC52-4ABA-A089-05C36CA8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EE1-06F5-4B7B-A98C-C831C7CC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0E2-110A-46DB-B865-1C9F610A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FA40-F7D8-47A4-B7C8-A11C487A4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geocities.com/myttsite/TPBoard.jpg"/>
          <p:cNvPicPr/>
          <p:nvPr/>
        </p:nvPicPr>
        <p:blipFill>
          <a:blip r:embed="rId1"/>
          <a:stretch/>
        </p:blipFill>
        <p:spPr>
          <a:xfrm>
            <a:off x="857160" y="857160"/>
            <a:ext cx="73440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928800" y="642960"/>
          <a:ext cx="7572240" cy="5786280"/>
        </p:xfrm>
        <a:graphic>
          <a:graphicData uri="http://schemas.openxmlformats.org/drawingml/2006/table">
            <a:tbl>
              <a:tblPr/>
              <a:tblGrid>
                <a:gridCol w="757080"/>
                <a:gridCol w="757440"/>
                <a:gridCol w="757080"/>
                <a:gridCol w="757080"/>
                <a:gridCol w="757440"/>
                <a:gridCol w="757080"/>
                <a:gridCol w="757440"/>
                <a:gridCol w="757080"/>
                <a:gridCol w="757440"/>
                <a:gridCol w="7570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71840" y="3286080"/>
            <a:ext cx="555480" cy="153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 rot="20613000">
            <a:off x="7489440" y="2317320"/>
            <a:ext cx="596880" cy="2506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5000760" y="1000080"/>
            <a:ext cx="1323720" cy="280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2500200" y="1357200"/>
            <a:ext cx="1817640" cy="70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5"/>
          <a:stretch/>
        </p:blipFill>
        <p:spPr>
          <a:xfrm rot="19450800">
            <a:off x="3830760" y="4776480"/>
            <a:ext cx="2117520" cy="825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6"/>
          <a:stretch/>
        </p:blipFill>
        <p:spPr>
          <a:xfrm>
            <a:off x="1000080" y="1214280"/>
            <a:ext cx="58572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25:08Z</dcterms:created>
  <dc:creator> </dc:creator>
  <dc:description/>
  <dc:language>en-US</dc:language>
  <cp:lastModifiedBy> </cp:lastModifiedBy>
  <dcterms:modified xsi:type="dcterms:W3CDTF">2008-10-09T08:40:21Z</dcterms:modified>
  <cp:revision>2</cp:revision>
  <dc:subject/>
  <dc:title>Slide 1</dc:title>
</cp:coreProperties>
</file>